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CBC-2A6E-413F-B80D-AAA482F0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055-C872-4FC8-B24B-A60C6281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5E7-43EF-4422-BB39-948971D1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4D1-D9D2-43EB-AD65-C8AA7BCB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E97-9859-4C86-8816-05250EF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040" y="4741920"/>
            <a:ext cx="2709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EE4-E06C-401A-8391-DBC3540E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E89-6948-4E77-A063-6E273B5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621-1508-44A7-83D2-CCBD82D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A0D-469D-4FFD-A61F-9FB09F1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E5A-76AF-4036-8882-CBAB679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74192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F93-167C-4C5B-AD92-1F2837F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741920"/>
            <a:ext cx="84139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917-E3CE-4452-BCCD-B84799D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42B3D-9B1D-4ABD-B023-DC92A90A0F4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41240" y="0"/>
            <a:ext cx="860760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Escola Estadual Drº João Ponce de Arr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Ribas do Rio Par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Progetec: Rita Elaine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upo de Estudo e Discussão do Núcleo de Tecnologias Educacionais Reg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(GED – NTE Reg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upo 3- Desacer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SACERTO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edro Demo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1880" y="1079640"/>
            <a:ext cx="8418600" cy="60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Nossas escolas e universidades praticam ainda o método instrucionista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Não se pesquisa ou elabora, não se fazem textos próprios, não se motiva a autoria mantendo-se como paradigma de aprendizagens mera instruçã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desacerto vem de Longe. Vem principalmente do ambiente instrucionista. O professor também é vítima desse sistema, pois não aprendeu a reconstruir o conhecimento, em geral não sabem elaborar  textos próprio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360360"/>
            <a:ext cx="86076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se torna o professor papagaio em uma escola onde o currículo prevê apenas repasses de conteú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precisa aprender elaborar, discutir o que produziu e apresentar o que reconstruiu, elaborando, assim, seu conhecimento, caso contrário não estuda de ver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Grande parte dos professores nunca pesquisou e elaborou Piaget, embora se imaginem capazes até mesmo de dar aula sobre o construtiv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professor pode até dar  aulas de construtivismo mas para isso  precisa pesquisar e elab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720720"/>
            <a:ext cx="90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É raro o aluno que gosta de estudar, isto é decorrente de uma sociedade que não preza o conhecimento como referência fundamental das oportunidades da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Estudar implica esforço sistemático e permanente de reconstrução do conhecimento na condição de sujeito que inova e se reno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Banaliza-se a pesquisa, entretanto na esfera da educação a pesquisa é o principio pedagógico da aprendizagem adequada, expediente indispensável na formação do alu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Pesquisar não implica apenas domínio do método, e sim, oportunidades mais elevadas de form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estudo noturno deve ser valorizado e preservado, o cansaço não é justificativa para encurtar o estu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O que é necessário é mudar a forma de ensin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20720" y="720720"/>
            <a:ext cx="8607600" cy="64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escola deveria reservar maior parte  do tempo para pesquisa e elabor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Memorizando conteúdos sobre pressão não se aprende para a vida, mas para a pro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aprendizagem virtual esta chegando. Às vezes criticada, porque a internet induz a cópia e ao excesso de inform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99284c"/>
                </a:solidFill>
                <a:latin typeface="Arial"/>
              </a:rPr>
              <a:t>A nova mídia precisa comparecer como chance inovadora de aprendizagem tanto mais reconstrutivas, porque os ambiente oferecem condições mais aprimoradas de pesquisa e elabor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6:19:55Z</dcterms:created>
  <dc:creator>C�tia Aparecida de Paula</dc:creator>
  <dc:description/>
  <dc:language>en-US</dc:language>
  <cp:lastModifiedBy>C�tia Aparecida de Paula</cp:lastModifiedBy>
  <dcterms:modified xsi:type="dcterms:W3CDTF">2015-03-27T03:47:47Z</dcterms:modified>
  <cp:revision>2</cp:revision>
  <dc:subject/>
  <dc:title>Apresentação do PowerPoint</dc:title>
</cp:coreProperties>
</file>